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066-055D-475B-AB36-C5349309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2B8-78C9-4707-9119-EE887E0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5EE-44D1-42E4-A4DB-F64C9286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E01-470F-4E87-A56C-346A9340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1D3-88B0-4159-A027-EE1B58B9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B54-50FC-4659-86B4-B510F0F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ECF-426D-429E-B719-33E7AC8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D04-1A10-425A-B5AD-F6F46D6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362-FF90-4443-8A13-ED9F5F16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F36-4E8A-4D0D-8D33-773059B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BD-7EDD-412B-A0A1-2D1A47C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363-D93C-4099-A0C3-E8C019E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0A38-174B-411F-AA40-B35964F2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1360"/>
            <a:ext cx="84502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krucible Example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6880" y="4573080"/>
            <a:ext cx="66168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tivities and Simulations for VASTS physics cor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3555720"/>
            <a:ext cx="966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On the lower right hand side of the screen, you will see a graph of Y position vs X position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blue and green pencils are tracing the motion of Balls #1 and #2. What do you think is going to happen after these balls have completed their rotations around the gravity well?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ess the play button again, and wait until the time reads 30.0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33720" y="406440"/>
            <a:ext cx="5613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3454560"/>
            <a:ext cx="966600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30.0 seconds, your position graph should look similar to the above image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do you think the green line, representing Ball #1, forms such a consistent ellipse as compared to the blue line (Ball #2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35240" y="304920"/>
            <a:ext cx="5664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320" y="650232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f you want to reset the activity to try changing some values, click the Return Arrow on the right side of the scree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203040"/>
            <a:ext cx="609588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imulation Demonstr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rucible also has an incredible number of simulations that are designed to compare small differences in initial condi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se simulations typically have their graphing options pre-configured for multiple analy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e will go through a simulation that's very similar to the previously completed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eturn to the krucible main screen, and click on "SIMULATION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34196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on "ENERG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41760" y="200160"/>
            <a:ext cx="38480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6603480"/>
            <a:ext cx="966600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e will be working with 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Energy Simulation #16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utilizing "three objects in different orbits". Similar simulations are highlighted here as wel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36840" y="201600"/>
            <a:ext cx="4151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320" y="6298920"/>
            <a:ext cx="966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three masses begin in orbits that are increasingly larger distances away from the gravity well</a:t>
            </a:r>
            <a:br>
              <a:rPr sz="21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    What do you shape will each of the orbits look like?  Hit play and pause after 5.0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743200" y="203040"/>
            <a:ext cx="39895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320" y="6501960"/>
            <a:ext cx="9666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5.0s, the 3 balls should be in a similar set of positions as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0402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320" y="3759120"/>
            <a:ext cx="966636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ph on the right side of the screen shows Distance from the gravity well vs Tim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on "Maximize Graph Screen" to view other graphs of this mo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27280" y="507960"/>
            <a:ext cx="6642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krucible and click on "Activitie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06440"/>
            <a:ext cx="42451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6700680"/>
            <a:ext cx="9667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different graphs of the particles' motion should now be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203040"/>
            <a:ext cx="84297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09600"/>
            <a:ext cx="9667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turn to the Simulation Screen by clicking on "Minimize Full-Screen View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o you think will happen if the Balls are set in motion for a longer period of ti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ill the sinusoidal nature of the velocity and position graphs continu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t play again and pause after 25.0s have elaps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320" y="670572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at is the difference between the green graph and the red graph?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o you notice a secondary pattern emerging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203040"/>
            <a:ext cx="874548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note of the velocity vector di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40160" y="203040"/>
            <a:ext cx="410364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ceed to click on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41680" y="203040"/>
            <a:ext cx="436392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click on "Activity 15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6840" y="203040"/>
            <a:ext cx="4060800" cy="64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6700680"/>
            <a:ext cx="9667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will see 4 points of mass centered around a gray gravit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203040"/>
            <a:ext cx="43117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629928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f you click on the Red Dot labeled "Toggle Position Arrow", the Velocity and Acceleration vectors of Ball #1 will appear. Notice their directions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38280" y="203040"/>
            <a:ext cx="38941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6299280"/>
            <a:ext cx="9666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lick on "Next" to cycle through the 4 balls, and activate the Velocity and Acceleration vectors for each. Your simulation screen should match the above im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203040"/>
            <a:ext cx="3915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6502320"/>
            <a:ext cx="96660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ess the "Play" button, then when 5.0seconds have elapsed, press the "Play" button agai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4043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" y="6400440"/>
            <a:ext cx="9666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happened to Balls #3 and #4?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id the motion of Ball #1 and Ball #2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0021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